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AB9C-38B9-40D4-93B5-DA9E6DC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0AC7-72B2-491D-B9A8-32DD6B14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85CC-F459-4D9D-AF39-43ED4FFA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452E-8574-48A5-8B56-95B39508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801-29AE-4BA7-B77E-B2BD9F4D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83FC-498C-433E-93C6-8DCE5C1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DD6A-761C-4825-9439-2E8E8482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309-B7B4-4E75-B7ED-D337ACA7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6B64-28DF-4BB0-8705-4B632AC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6A59-688F-4046-8018-7092B0A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D954-A40D-4568-B11F-DBE220B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CCAE-BEA1-4095-B111-B16DF88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2F2E-14A6-498E-9937-26AF772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504A-A7ED-4268-AD22-1480965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DCB-7F72-483D-9E8B-7B0CEF6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530B-54AD-4CC4-8CF2-5019C75A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029-04D4-40E2-821B-E4FBE1BF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10C3-09AE-453F-A131-76D1AFB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4D07-24EF-4696-91AB-4812A255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087E-E94D-452A-B94D-EA3D03F0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1607-3329-4467-99D8-B8DFED27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9F83-9134-48B6-A72F-236930C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DCC2-7225-4366-85E3-FCB9115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ECCD-8504-41E2-BC1B-C886DF5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99A4-E779-4B99-BA53-9C2413BDDE9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119C-0DFF-4A55-8A88-E802C49A255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36640"/>
            <a:ext cx="82072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费用报销系统功能介绍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东莞市蓝软坊信息技术有限公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0769-22388095 8987074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aramond"/>
              </a:rPr>
              <a:t>tech@lanruanfang.com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Ⅰ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基础资料与权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部门资料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用户资料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预算科目设置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四、权限配置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操作权限分配——每个用户登陆以后具有的操作权限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环节审核权限——为报销单和出差申请单设置审核用户；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）数据限制权限——不同角色或用户能够看到的数据范围不同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五、系统参数设置——启用的起始月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Ⅱ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预算发布与结算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预算编制与发布——在预算编制模块中通过点击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发布预算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按钮使年度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季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月度）预算正式生效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月末结转——每个月的报销入账完毕以后需要结转（如果本月处于预算期的末月份则同时进行预算的结算，结算以后通过上一步骤发布并执行新一期的预算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Ⅲ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出差与报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出差申请单——申请人根据报销标准计算预支借款并填报出差申请单，经过审核以后到出纳借款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费用报销单——各类费用报销入账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预算调整单——发布以后的预算可以根据需要进行调整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单据的审核、复核、记账环节是可选的，根据需要灵活配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Ⅳ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统计分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费用报销与预算对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本期费用与上一期对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报销明细核对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四、其他各种查询和统计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备注：可根据需要对软件功能进行调整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9:23:29Z</dcterms:created>
  <dc:creator>Administrator</dc:creator>
  <dc:description/>
  <dc:language>en-US</dc:language>
  <cp:lastModifiedBy>Administrator</cp:lastModifiedBy>
  <dcterms:modified xsi:type="dcterms:W3CDTF">2012-07-24T10:09:45Z</dcterms:modified>
  <cp:revision>2</cp:revision>
  <dc:subject/>
  <dc:title>费用报销系统功能介绍</dc:title>
</cp:coreProperties>
</file>